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4CB7-AABD-4D79-8C0E-173969D1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CBBC-9491-4744-B455-F2A75019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BC01-836D-4169-83FF-EFF61CD9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CC3B-8A0D-44DC-ACD3-512119FF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3083-2673-4580-9D54-F20FE02F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431E-0558-4261-A876-EDD1DE5A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6E41-57E7-423F-8D9B-26F1DCF2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8F6E-8BF0-4648-84D3-44BDA756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BCED-171F-46A9-8421-48968BAC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5964-4EBD-4821-B6AF-8F2C8CAB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BB58-4A53-474C-B542-E5258C2B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6763-2033-4A86-B6B9-0875C2B7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D236-BB9D-4445-84CB-1D66E389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A226-BC3C-4224-817E-36578EA5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75DE-2510-4745-BED7-8D26D384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085A-D314-4DF9-84A8-B7E49569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B1F8-AB8C-46E0-8BD1-ACEE20D6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FCCE-483B-48CC-9B7F-76F23F02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2098-577F-48DD-B5FF-2CFBB2A3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4C77-6A89-4C3C-A5B6-045F2215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E4F3-7DD4-4D7C-B598-8C103889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38D4-F4AA-469E-AA0C-45B20DF8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3FA2-6DCF-4F97-A811-F76F30D8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3083-7FC1-4E3F-9655-A15499EA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B543-E42A-4E20-9CD4-206CC84661D4}" type="slidenum">
              <a:rPr b="0" lang="es-MX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6f1e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601D-9E04-49B0-9D3A-E7188CFC7C92}" type="slidenum">
              <a:rPr b="0" lang="es-MX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6f1ec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vinculando.org/mercado/cafe/procesamiento.htm" TargetMode="External"/><Relationship Id="rId3" Type="http://schemas.openxmlformats.org/officeDocument/2006/relationships/hyperlink" Target="http://www.vinculando.org/mercado/cafe/procesamiento.htm" TargetMode="External"/><Relationship Id="rId4" Type="http://schemas.openxmlformats.org/officeDocument/2006/relationships/hyperlink" Target="http://www.vinculando.org/mercado/cafe/procesamiento.htm" TargetMode="External"/><Relationship Id="rId5" Type="http://schemas.openxmlformats.org/officeDocument/2006/relationships/hyperlink" Target="http://www.vinculando.org/mercado/cafe/procesamiento.htm" TargetMode="External"/><Relationship Id="rId6" Type="http://schemas.openxmlformats.org/officeDocument/2006/relationships/hyperlink" Target="http://www.vinculando.org/mercado/cafe/procesamiento.htm" TargetMode="External"/><Relationship Id="rId7" Type="http://schemas.openxmlformats.org/officeDocument/2006/relationships/hyperlink" Target="http://www.vinculando.org/mercado/cafe/procesamiento.htm" TargetMode="External"/><Relationship Id="rId8" Type="http://schemas.openxmlformats.org/officeDocument/2006/relationships/hyperlink" Target="http://www.vinculando.org/mercado/cafe/procesamiento.htm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700" spc="-1" strike="noStrike">
                <a:solidFill>
                  <a:srgbClr val="ffffcc"/>
                </a:solidFill>
                <a:latin typeface="Arial"/>
              </a:rPr>
              <a:t>Bienvenido a la</a:t>
            </a:r>
            <a:br>
              <a:rPr sz="5700"/>
            </a:br>
            <a:r>
              <a:rPr b="0" lang="es-ES_tradnl" sz="5700" spc="-1" strike="noStrike">
                <a:solidFill>
                  <a:srgbClr val="ffffcc"/>
                </a:solidFill>
                <a:latin typeface="Arial"/>
              </a:rPr>
              <a:t> feria del café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32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Verdana"/>
              </a:rPr>
              <a:t>Consejo Ejidal de productores de café de Coatepec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43280" y="4351320"/>
            <a:ext cx="3744720" cy="2506680"/>
          </a:xfrm>
          <a:prstGeom prst="rect">
            <a:avLst/>
          </a:prstGeom>
          <a:ln w="0">
            <a:noFill/>
          </a:ln>
        </p:spPr>
      </p:pic>
    </p:spTree>
  </p:cSld>
  <p:transition advTm="15000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Ciudad del café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Coatepec produce café desde 1830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4356000" cy="3049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9640" y="2997360"/>
            <a:ext cx="381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Cada año, actualmente, se realiza la Feria del café entre abril y may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advTm="15000">
    <p:wheel spokes="1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Siembra de los cafet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16000" y="1773360"/>
            <a:ext cx="2916360" cy="4600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aeaea"/>
                </a:solidFill>
                <a:latin typeface="Verdana"/>
              </a:rPr>
              <a:t>Germinación del grano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5442120" y="2781360"/>
            <a:ext cx="133596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Arial"/>
              </a:rPr>
              <a:t>Almácig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10480" y="3860640"/>
            <a:ext cx="241488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Arial"/>
              </a:rPr>
              <a:t>Trasplante a la tierr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93400" y="4869000"/>
            <a:ext cx="302760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Arial"/>
              </a:rPr>
              <a:t>Producción de los cafet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40360" y="2349360"/>
            <a:ext cx="289080" cy="2890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0360" y="3357720"/>
            <a:ext cx="289080" cy="288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0360" y="4508640"/>
            <a:ext cx="289080" cy="288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2737080" cy="4033800"/>
          </a:xfrm>
          <a:prstGeom prst="rect">
            <a:avLst/>
          </a:prstGeom>
          <a:ln w="0">
            <a:noFill/>
          </a:ln>
        </p:spPr>
      </p:pic>
    </p:spTree>
  </p:cSld>
  <p:transition advTm="15000">
    <p:wheel spokes="1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00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Arial"/>
              </a:rPr>
              <a:t>Producción del café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48360" y="1125360"/>
            <a:ext cx="3240000" cy="2122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451640" y="5084640"/>
            <a:ext cx="1692360" cy="1263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356000" y="3573360"/>
            <a:ext cx="1152720" cy="1014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76360" y="5300640"/>
            <a:ext cx="216072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Tostado y molid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79200" y="1844640"/>
            <a:ext cx="321336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Arial"/>
              </a:rPr>
              <a:t>R</a:t>
            </a:r>
            <a:r>
              <a:rPr b="1" lang="es-MX" sz="1800" spc="-1" strike="noStrike">
                <a:solidFill>
                  <a:srgbClr val="eaeaea"/>
                </a:solidFill>
                <a:latin typeface="Arial"/>
              </a:rPr>
              <a:t>ecolección del café cerez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21760" y="2565360"/>
            <a:ext cx="243000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Beneficiado húmed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27560" y="3225960"/>
            <a:ext cx="167868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Fermentació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82840" y="4608360"/>
            <a:ext cx="205992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Beneficiado sec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2233440"/>
            <a:ext cx="289080" cy="2890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2924280"/>
            <a:ext cx="289080" cy="288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68360" y="3616200"/>
            <a:ext cx="289080" cy="2890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3360" y="3933720"/>
            <a:ext cx="98532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Verdana"/>
              </a:rPr>
              <a:t>Secad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68360" y="4307040"/>
            <a:ext cx="289080" cy="288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68360" y="4997520"/>
            <a:ext cx="289080" cy="288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219640" y="4869000"/>
            <a:ext cx="2016360" cy="1603080"/>
          </a:xfrm>
          <a:prstGeom prst="rect">
            <a:avLst/>
          </a:prstGeom>
          <a:ln w="0">
            <a:noFill/>
          </a:ln>
        </p:spPr>
      </p:pic>
    </p:spTree>
  </p:cSld>
  <p:transition advTm="15000">
    <p:wheel spokes="1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Nuestro Consejo Ejid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0" y="2276640"/>
            <a:ext cx="4148280" cy="2778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03120" y="1571760"/>
            <a:ext cx="412452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Somos 132 miembros con sus familia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Promovemos la calidad del café que se produ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advTm="15000">
    <p:wheel spokes="1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remove" presetClass="emph" presetID="33" repeatCount="2000">
                                  <p:stCondLst>
                                    <p:cond delay="4000"/>
                                  </p:stCondLst>
                                  <p:childTnLst>
                                    <p:animClr clrSpc="rgb">
                                      <p:cBhvr>
                                        <p:cTn id="129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855b"/>
                                      </p:to>
                                    </p:animClr>
                                    <p:animClr clrSpc="rgb">
                                      <p:cBhvr>
                                        <p:cTn id="130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855b"/>
                                      </p:to>
                                    </p:animClr>
                                    <p:set>
                                      <p:cBhvr>
                                        <p:cTn id="131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2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Nuestro Consejo Ejid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Manejamos un </a:t>
            </a:r>
            <a:r>
              <a:rPr b="1" lang="es-ES_tradnl" sz="3200" spc="-1" strike="noStrike">
                <a:solidFill>
                  <a:srgbClr val="eaeaea"/>
                </a:solidFill>
                <a:latin typeface="Verdana"/>
              </a:rPr>
              <a:t>precio justo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, que nos permita pagar los gastos de producción y tener gananci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advTm="15000">
    <p:wheel spokes="1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Nuestro Consejo Ejid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Somos una importante fuente de trabajo en la región y por ello cuidamos mucho la calidad de nuestros product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advTm="15000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Vent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3240000" cy="35449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995640" y="1413000"/>
            <a:ext cx="4700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Comuníquese con nosotro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Vendemos a cualquier parte del paí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Manejamos exportacion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TENEMOS EL MEJOR CAFÉ DE COATEPE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¡Le encantará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020000" y="522936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12773" y="3837"/>
                </a:moveTo>
                <a:lnTo>
                  <a:pt x="15349" y="6448"/>
                </a:ln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lnTo>
                  <a:pt x="19736" y="10800"/>
                </a:lnTo>
                <a:lnTo>
                  <a:pt x="18082" y="10800"/>
                </a:lnTo>
                <a:lnTo>
                  <a:pt x="18082" y="17989"/>
                </a:lnTo>
                <a:lnTo>
                  <a:pt x="7463" y="17989"/>
                </a:lnTo>
                <a:lnTo>
                  <a:pt x="7463" y="10800"/>
                </a:lnTo>
                <a:lnTo>
                  <a:pt x="5810" y="10800"/>
                </a:lnTo>
                <a:close/>
              </a:path>
              <a:path fill="darkenLess" w="25545" h="21600">
                <a:moveTo>
                  <a:pt x="15349" y="6448"/>
                </a:move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close/>
              </a:path>
              <a:path fill="darkenLess" w="25545" h="21600">
                <a:moveTo>
                  <a:pt x="11850" y="14299"/>
                </a:moveTo>
                <a:lnTo>
                  <a:pt x="13695" y="14299"/>
                </a:lnTo>
                <a:lnTo>
                  <a:pt x="13695" y="17989"/>
                </a:lnTo>
                <a:lnTo>
                  <a:pt x="18082" y="17989"/>
                </a:lnTo>
                <a:lnTo>
                  <a:pt x="18082" y="10800"/>
                </a:lnTo>
                <a:lnTo>
                  <a:pt x="7463" y="10800"/>
                </a:lnTo>
                <a:lnTo>
                  <a:pt x="7463" y="17989"/>
                </a:lnTo>
                <a:lnTo>
                  <a:pt x="11850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6146640"/>
            <a:ext cx="684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</a:t>
            </a:r>
            <a:r>
              <a:rPr b="0" lang="es-ES" sz="1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://</a:t>
            </a:r>
            <a:r>
              <a:rPr b="0" lang="es-ES" sz="1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www.vinculando.org</a:t>
            </a:r>
            <a:r>
              <a:rPr b="0" lang="es-ES" sz="1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/mercado/</a:t>
            </a:r>
            <a:r>
              <a:rPr b="0" lang="es-ES" sz="1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cafe</a:t>
            </a:r>
            <a:r>
              <a:rPr b="0" lang="es-ES" sz="18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/</a:t>
            </a:r>
            <a:r>
              <a:rPr b="0" lang="es-ES" sz="18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procesamiento.ht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advTm="15000">
    <p:wheel spokes="1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8:51:14Z</dcterms:created>
  <dc:creator>rocio</dc:creator>
  <dc:description/>
  <dc:language>en-US</dc:language>
  <cp:lastModifiedBy>rocio</cp:lastModifiedBy>
  <dcterms:modified xsi:type="dcterms:W3CDTF">2006-06-19T18:57:22Z</dcterms:modified>
  <cp:revision>31</cp:revision>
  <dc:subject/>
  <dc:title>Bienvenido a la feria del café</dc:title>
</cp:coreProperties>
</file>